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EA9F-E74A-49FD-8DC9-94552F883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61F4-C6AA-4685-94A9-B7734761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2F59-54A4-48DF-84E0-B3C02BB94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D2E0-B31A-49AC-9288-4B63EEAB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E412-9F78-46C8-935A-609A6096A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4D54-A679-4300-87F4-F73FEEAF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A74C-6782-434B-8B46-9B9735E2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91E0-8361-4322-8954-3B7DF298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2A51-3CDE-44FD-BB17-5BE10670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694D-7C36-4763-9180-1B2982F4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FFBD-3ED8-477A-8C17-3EE954D2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1B50-EB3F-46DB-A4D5-A8508540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02DA-D57A-436F-9140-E8154860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FAAF-DD49-4457-87A3-95EB83A0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C034-552A-44AA-90C1-078706D2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7873-A0A7-44EA-A49F-11448BDD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BB44-8CB4-467F-8477-AB585305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1CBB6-BACC-4381-B8FA-D02D3354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17AD3-019E-4ECA-9506-7243D75A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A337B-8187-4902-A3F3-D3803D9F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00C8E-7CB3-46D1-B449-5DD33A86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EAEF5-E5D9-4D45-BA8F-828675D2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B81A-34AE-4294-87FD-899AED96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714EB-FEF4-41B0-87A3-CA72DA4A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AFC4D-EF33-44A3-ADD2-C9D39490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ED2AE-B199-4788-A8AF-F17CEC92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5BFE5-D4F5-409B-8FDA-DD6EF338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AEC28-6FCD-4679-A9F2-A12C488B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1DC8C-5CA5-4EF3-8F69-F6AFDB17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9718C-6547-4685-961A-A27108E6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0CD34-3EA2-43B7-9257-A314D1E5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D3155-141B-4F96-81BF-386407A0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AC6DA-3BF6-4086-94C0-086900EE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E94A-2536-40A5-B027-DB6FBAD7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B5E42-36CF-4D6D-9FE4-9324C543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48B78-4B20-4540-BEAF-5BE03D2B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B8605-E318-421D-9854-921FD522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56AB9-AEEB-4369-B8CD-160850BF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10A12-193B-4873-BC84-AE881B31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9F88F-49C3-42AD-AF35-F2B0F06D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40F0F-A77C-437C-BF4E-A29856B2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C1F48-5E5C-4796-BA47-98F6B3F4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FABDA-9F09-4535-A2E5-40CED6CD5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F67B-9410-4D6C-B0B9-F2F4DB56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CD6C-7D05-4225-B76D-E1559923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C5EF-97ED-4682-8CF8-F88A4EC4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93D5-FE3D-4ECD-8862-71522FEC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7945-5C2D-453C-ACEA-402FD245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F03D-25D8-48AB-953C-9D80F1BDD2CF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EA85-DC50-4749-8482-099122E82A9D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D4B5-88B9-461F-BB05-6243A2E935AA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BF98-5DA8-4A6C-A856-FA2EB2FE68B2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2120" y="150480"/>
            <a:ext cx="9718560" cy="4157640"/>
          </a:xfrm>
          <a:prstGeom prst="rect">
            <a:avLst/>
          </a:prstGeom>
          <a:noFill/>
          <a:ln w="9360">
            <a:solidFill>
              <a:srgbClr val="90c226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6000" spc="-1" strike="noStrike">
                <a:solidFill>
                  <a:srgbClr val="90c226"/>
                </a:solidFill>
                <a:latin typeface="Trebuchet MS"/>
              </a:rPr>
              <a:t>        </a:t>
            </a:r>
            <a:r>
              <a:rPr b="0" i="1" lang="ru-RU" sz="6000" spc="-1" strike="noStrike">
                <a:solidFill>
                  <a:srgbClr val="90c226"/>
                </a:solidFill>
                <a:latin typeface="Trebuchet MS"/>
              </a:rPr>
              <a:t>Окружающий мир</a:t>
            </a:r>
            <a:br>
              <a:rPr sz="6000"/>
            </a:br>
            <a:r>
              <a:rPr b="0" i="1" lang="ru-RU" sz="6000" spc="-1" strike="noStrike">
                <a:solidFill>
                  <a:srgbClr val="90c226"/>
                </a:solidFill>
                <a:latin typeface="Trebuchet MS"/>
              </a:rPr>
              <a:t>      «Кто нас лечит»?</a:t>
            </a:r>
            <a:br>
              <a:rPr sz="6000"/>
            </a:br>
            <a:r>
              <a:rPr b="0" i="1" lang="ru-RU" sz="60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90c226"/>
                </a:solidFill>
                <a:latin typeface="Trebuchet MS"/>
              </a:rPr>
              <a:t>Тема недели: </a:t>
            </a:r>
            <a:br>
              <a:rPr sz="2000"/>
            </a:br>
            <a:r>
              <a:rPr b="0" lang="ru-RU" sz="2000" spc="-1" strike="noStrike">
                <a:solidFill>
                  <a:srgbClr val="90c226"/>
                </a:solidFill>
                <a:latin typeface="Trebuchet MS"/>
              </a:rPr>
              <a:t>«Мир профессий»</a:t>
            </a:r>
            <a:br>
              <a:rPr sz="2000"/>
            </a:br>
            <a:r>
              <a:rPr b="0" lang="ru-RU" sz="2000" spc="-1" strike="noStrike">
                <a:solidFill>
                  <a:srgbClr val="90c226"/>
                </a:solidFill>
                <a:latin typeface="Trebuchet MS"/>
              </a:rPr>
              <a:t>(с 13.04 по 17.04)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Цель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292040" y="1890360"/>
            <a:ext cx="793908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Узнать больше о профессий врач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45960" y="-360"/>
            <a:ext cx="942948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6000" spc="-1" strike="noStrike">
                <a:solidFill>
                  <a:srgbClr val="90c226"/>
                </a:solidFill>
                <a:latin typeface="Trebuchet MS"/>
              </a:rPr>
              <a:t>«Доктор Айболит»</a:t>
            </a:r>
            <a:endParaRPr b="0" lang="en-US" sz="6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320760" y="1770120"/>
            <a:ext cx="522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годня вам предлагаем прочитать  сказку: Корнея Чуковского «Доктор Айболит». Так же вы можете просмотреть видео сказ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5" descr="1017815927.jpg"/>
          <p:cNvPicPr/>
          <p:nvPr/>
        </p:nvPicPr>
        <p:blipFill>
          <a:blip r:embed="rId1"/>
          <a:stretch/>
        </p:blipFill>
        <p:spPr>
          <a:xfrm>
            <a:off x="7515360" y="1246320"/>
            <a:ext cx="374328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02920" y="193680"/>
            <a:ext cx="85964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сле прочтения или просмотра задать ребенку следующие вопросы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ак называется профессия «Доктора Айболита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ля чего ему нужен чемоданчик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Что находиться в этом чемоданчике предметы по картинке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играть в игру:«Айболит проверяет здоровье ребят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Стрелка вниз 9"/>
          <p:cNvSpPr/>
          <p:nvPr/>
        </p:nvSpPr>
        <p:spPr>
          <a:xfrm>
            <a:off x="7280280" y="133020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Рисунок 10" descr="doctor.png"/>
          <p:cNvPicPr/>
          <p:nvPr/>
        </p:nvPicPr>
        <p:blipFill>
          <a:blip r:embed="rId1"/>
          <a:stretch/>
        </p:blipFill>
        <p:spPr>
          <a:xfrm>
            <a:off x="7505640" y="1346040"/>
            <a:ext cx="4892760" cy="48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2560" y="2028960"/>
            <a:ext cx="4335120" cy="420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Прямоугольник 2"/>
          <p:cNvSpPr/>
          <p:nvPr/>
        </p:nvSpPr>
        <p:spPr>
          <a:xfrm flipV="1">
            <a:off x="325440" y="1602360"/>
            <a:ext cx="4021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Содержимое 11" descr="1026514629.jpg"/>
          <p:cNvPicPr/>
          <p:nvPr/>
        </p:nvPicPr>
        <p:blipFill>
          <a:blip r:embed="rId1"/>
          <a:stretch/>
        </p:blipFill>
        <p:spPr>
          <a:xfrm>
            <a:off x="450720" y="272880"/>
            <a:ext cx="965520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Спасибо за внимание!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31T01:25:42Z</dcterms:created>
  <dc:creator>HP!</dc:creator>
  <dc:description/>
  <dc:language>en-US</dc:language>
  <cp:lastModifiedBy>USER</cp:lastModifiedBy>
  <dcterms:modified xsi:type="dcterms:W3CDTF">2020-04-10T12:11:53Z</dcterms:modified>
  <cp:revision>56</cp:revision>
  <dc:subject/>
  <dc:title>Фотоальбом</dc:title>
</cp:coreProperties>
</file>